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E10-AA18-4ED0-AD51-82025C19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E96-C575-4FD5-B9C0-C2AF2CB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525-BBA6-428F-9194-E60D7770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629-0B47-48A6-8B1A-A4910B70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CC8-4EBE-4231-B43D-FFC3E193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89F-CFEA-40E1-BB9D-1E27EDB7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9C0-AF46-4CC1-A7C9-5CC55D3F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59C-95D5-4A37-993D-20FED96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1A1-55AF-456A-BD92-34977ED9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A9E-76BB-47AA-A7D4-4FD4F3C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A52-7439-4E6B-84CC-04ACCF2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945-68D1-476A-BCDE-D273AF14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62F-26B5-49E8-B874-85E4306D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26 &amp; 27-11   * Focus Test this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o. Terms Test this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5"/>
          <p:cNvSpPr/>
          <p:nvPr/>
        </p:nvSpPr>
        <p:spPr>
          <a:xfrm>
            <a:off x="0" y="990720"/>
            <a:ext cx="457200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26 &amp; 2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point of land that extends into a river, lake, or oc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high, flat landform that rises steeply above the surrounding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series of connected mountains call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2971800" y="1676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5"/>
          <p:cNvSpPr/>
          <p:nvPr/>
        </p:nvSpPr>
        <p:spPr>
          <a:xfrm>
            <a:off x="3581280" y="25909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lat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6"/>
          <p:cNvSpPr/>
          <p:nvPr/>
        </p:nvSpPr>
        <p:spPr>
          <a:xfrm>
            <a:off x="23623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untain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http://static.panoramio.com/photos/original/15879321.jpg"/>
          <p:cNvPicPr/>
          <p:nvPr/>
        </p:nvPicPr>
        <p:blipFill>
          <a:blip r:embed="rId1"/>
          <a:stretch/>
        </p:blipFill>
        <p:spPr>
          <a:xfrm>
            <a:off x="5105520" y="3479760"/>
            <a:ext cx="5084640" cy="3378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upload.wikimedia.org/wikipedia/commons/1/1d/Satellite_image_of_Cape_peninsula.jpg"/>
          <p:cNvPicPr/>
          <p:nvPr/>
        </p:nvPicPr>
        <p:blipFill>
          <a:blip r:embed="rId2"/>
          <a:srcRect l="16810" t="0" r="0" b="0"/>
          <a:stretch/>
        </p:blipFill>
        <p:spPr>
          <a:xfrm>
            <a:off x="0" y="3505320"/>
            <a:ext cx="5140440" cy="335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http://www.traveladventures.org/continents/africa/images/hamm10.jpg"/>
          <p:cNvPicPr/>
          <p:nvPr/>
        </p:nvPicPr>
        <p:blipFill>
          <a:blip r:embed="rId3"/>
          <a:srcRect l="0" t="0" r="0" b="26155"/>
          <a:stretch/>
        </p:blipFill>
        <p:spPr>
          <a:xfrm>
            <a:off x="4572000" y="99072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6T13:11:53Z</dcterms:modified>
  <cp:revision>102</cp:revision>
  <dc:subject/>
  <dc:title>Slide 1</dc:title>
</cp:coreProperties>
</file>